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F4F-1424-4840-93CD-E6E382ED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3D3-BEC3-43F5-846C-83FB0E2F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C91-D8F5-4C61-A50E-8F35D137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0BF-A225-44F7-A910-CCAE064C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39AB3-0353-4906-A9E7-BE46AB12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20B6A-BA99-4FE1-A4C7-92D68DD1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70C94-83EA-493D-B090-3F6B3E58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9A117-5C01-48D0-A6B8-F9ACAA2D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0DF9F-0218-4880-B47D-8FE05A47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09BAA-28E2-4E08-B6C4-5E39D2A6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7F25F-0D1F-44E1-9A92-3D8FF977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39E-654F-41FC-8C9C-DC0F061B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A9859-8FA7-46A1-9634-A4C87DDA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1D2C9-D5BA-4FDC-A951-41FB5542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BDFCE-8B37-46AB-A26E-E8DD37CF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15BBC-95F3-466E-975E-1BFC9CC5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AF7B7-C145-4DE4-B7AF-D23A1E83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69A-B853-40A1-BD8A-C6B0E9D5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CF9-E788-485B-9511-47828CB0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53F-1ED8-40D5-B75F-4E259B56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1B0-8B64-4B09-AAC3-7DD7FB9E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BF2-713B-4906-8B83-FEEDA63F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211-7941-4B14-8142-57E421E1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7F7-00E6-4526-8A76-325E24B0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CFC3-4844-43EC-96D9-563DBFD5718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4BAC-88CF-49B1-B23A-BA2F2520F76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05-10-06T08:31:40Z</dcterms:modified>
  <cp:revision>59</cp:revision>
  <dc:subject/>
  <dc:title>幻灯片 1</dc:title>
</cp:coreProperties>
</file>